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7B4-EF11-427C-8D8F-4DCB861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ECD-1BC3-45EF-BC41-65DE2C7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315-BA9E-431E-AFEE-6D00BABD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4E0-08EF-4D50-843C-EDF7BA41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A8E5-1676-4C05-9AEC-7EA7272F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7A9B-A12E-45C4-AFC1-194A8267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12B7-6076-4DEA-BC8B-C3080AE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4BEF-6966-4607-9218-25E7E2E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AE8-DC65-4A30-B1D9-C10F86AA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F5D5-A92E-4C8B-B9E4-2804C1F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C90-3D69-4BAB-90EE-9B18EB4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575-EB31-4E80-89CA-FB4D66A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58BB-A099-49FD-A1B2-62009366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DF4-0581-41D5-8AD8-7A9904F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CFA-E942-4B75-B241-E587723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6D0F-F96A-4E0E-B925-96D7DA68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8C5-8C62-44B4-8F1B-509D151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487-B874-4A76-898F-31A0F1AB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F35-9F24-47B8-B474-900FD17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DDE-8A28-4DFA-A2D6-B15E0AFE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DAD-BAF7-4245-A4BB-0E1FD92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9B3-D4F5-4726-BA6F-633C8DE5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590-64BE-490A-8BFA-8C39594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FE0-C4CA-4B95-80B3-9E57B20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24C-12FD-424E-B3C9-13F6DCC97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C1D2-5857-49FA-BB63-F61CEBFED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209680" y="228600"/>
            <a:ext cx="56390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2e00"/>
                </a:solidFill>
                <a:latin typeface="Monotype Corsiva"/>
              </a:rPr>
              <a:t>La Casa De Mis Sueñ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00"/>
                </a:solidFill>
                <a:latin typeface="Monotype Corsiva"/>
              </a:rPr>
              <a:t>By: Caitlin Keave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El Colump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66680" y="1630440"/>
            <a:ext cx="70106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025640" y="1371600"/>
            <a:ext cx="731520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99072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La Sala de Juego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335268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casa  de mi sueños está localizada en Florida, USA. La casa es muy grande. Está en la calle Beach. La casa tiene veinte cuartos. La casa es estupendo y bell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3" descr="80356_palm%20trees%20streets%20weston"/>
          <p:cNvPicPr/>
          <p:nvPr/>
        </p:nvPicPr>
        <p:blipFill>
          <a:blip r:embed="rId2"/>
          <a:stretch/>
        </p:blipFill>
        <p:spPr>
          <a:xfrm>
            <a:off x="5562720" y="22860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ANd9GcS_RK89-WFo0GnICWgCgr2zNdbE3pBsbYBm-Way1kfMmDgZV6La"/>
          <p:cNvPicPr/>
          <p:nvPr/>
        </p:nvPicPr>
        <p:blipFill>
          <a:blip r:embed="rId3"/>
          <a:stretch/>
        </p:blipFill>
        <p:spPr>
          <a:xfrm>
            <a:off x="5562720" y="2438280"/>
            <a:ext cx="2438280" cy="15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5115436-birdseye-view-of-a-crowded-beach-in-a-hot-summer-day"/>
          <p:cNvPicPr/>
          <p:nvPr/>
        </p:nvPicPr>
        <p:blipFill>
          <a:blip r:embed="rId4"/>
          <a:stretch/>
        </p:blipFill>
        <p:spPr>
          <a:xfrm>
            <a:off x="5562720" y="44197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7280" y="228600"/>
            <a:ext cx="2819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La Coci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cocina bonita es muy grande. La cocina tiene el horno, la nevera, y el fregadero nuevo. La cocina tiene el tostador y la licuadora tambien. La ventana en la cocina es muy grande. Me gusta cocino en la coc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193795590185081506QQr7e7Vkc"/>
          <p:cNvPicPr/>
          <p:nvPr/>
        </p:nvPicPr>
        <p:blipFill>
          <a:blip r:embed="rId1"/>
          <a:stretch/>
        </p:blipFill>
        <p:spPr>
          <a:xfrm>
            <a:off x="0" y="0"/>
            <a:ext cx="5257800" cy="3929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3352680" y="251460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3360" y="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clean-stainless-steel"/>
          <p:cNvPicPr/>
          <p:nvPr/>
        </p:nvPicPr>
        <p:blipFill>
          <a:blip r:embed="rId2"/>
          <a:stretch/>
        </p:blipFill>
        <p:spPr>
          <a:xfrm>
            <a:off x="5867280" y="838080"/>
            <a:ext cx="2743200" cy="254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bay_window"/>
          <p:cNvPicPr/>
          <p:nvPr/>
        </p:nvPicPr>
        <p:blipFill>
          <a:blip r:embed="rId3"/>
          <a:stretch/>
        </p:blipFill>
        <p:spPr>
          <a:xfrm>
            <a:off x="5943600" y="380988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La Sal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sala es incredible y lujoso. Tiene el sofa grande, la silla estupendo, y la lámpara nueva. La sala tiene las picturas, el alfombre, y la televisión tambein. Me gusta lee en la sa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Amazing-Living-Room-Furniture_3"/>
          <p:cNvPicPr/>
          <p:nvPr/>
        </p:nvPicPr>
        <p:blipFill>
          <a:blip r:embed="rId1"/>
          <a:stretch/>
        </p:blipFill>
        <p:spPr>
          <a:xfrm>
            <a:off x="1905120" y="838080"/>
            <a:ext cx="51814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l  Ba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i casa tiene sies baños. Mi baño favorito es muy bello y magnifico. Tiene el barete, la bañera, y grifo. Tiene un ducha nueva y las totallas lujosas tamb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400"/>
          <p:cNvPicPr/>
          <p:nvPr/>
        </p:nvPicPr>
        <p:blipFill>
          <a:blip r:embed="rId1"/>
          <a:stretch/>
        </p:blipFill>
        <p:spPr>
          <a:xfrm>
            <a:off x="457200" y="330660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eautiful-outdoor-shower-enclosure-238x300"/>
          <p:cNvPicPr/>
          <p:nvPr/>
        </p:nvPicPr>
        <p:blipFill>
          <a:blip r:embed="rId2"/>
          <a:stretch/>
        </p:blipFill>
        <p:spPr>
          <a:xfrm>
            <a:off x="5505480" y="227160"/>
            <a:ext cx="1962000" cy="247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Walk-in+closet"/>
          <p:cNvPicPr/>
          <p:nvPr/>
        </p:nvPicPr>
        <p:blipFill>
          <a:blip r:embed="rId3"/>
          <a:stretch/>
        </p:blipFill>
        <p:spPr>
          <a:xfrm>
            <a:off x="5334120" y="3751200"/>
            <a:ext cx="2936880" cy="2349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043600" y="2722680"/>
            <a:ext cx="28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cha al aire li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264280" y="6157800"/>
            <a:ext cx="30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rmario 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47680"/>
            <a:ext cx="59817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Dormatori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i casa tiene un dormatorio  grande. La dormatorio tiene la cama blanca, la cómoda, la lámpara, y el alfombre grande. Tiene  el telivisar  moderno, y las ventanas grandes tambien. Me gusta escuchar música en la dormato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the-master-bedroom-is-huge-with-gorgeous-views-of-the-ocean"/>
          <p:cNvPicPr/>
          <p:nvPr/>
        </p:nvPicPr>
        <p:blipFill>
          <a:blip r:embed="rId1"/>
          <a:stretch/>
        </p:blipFill>
        <p:spPr>
          <a:xfrm>
            <a:off x="1752480" y="914400"/>
            <a:ext cx="5943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5486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Comedo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46479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l comedor en mi casa es muy magnifico. Tiene la mesa antigua y muchas sillas. El comedor  tiene las picturas bonitas y la chiminea. Me gusta como en el come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huge-dining-room-though"/>
          <p:cNvPicPr/>
          <p:nvPr/>
        </p:nvPicPr>
        <p:blipFill>
          <a:blip r:embed="rId1"/>
          <a:stretch/>
        </p:blipFill>
        <p:spPr>
          <a:xfrm>
            <a:off x="2286000" y="1066680"/>
            <a:ext cx="46483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ANd9GcR3MPu4aNR8ZUvMWJmJi0EVMBSw0m5-IOejXTrgnz-o72WY91XY"/>
          <p:cNvPicPr/>
          <p:nvPr/>
        </p:nvPicPr>
        <p:blipFill>
          <a:blip r:embed="rId1"/>
          <a:stretch/>
        </p:blipFill>
        <p:spPr>
          <a:xfrm>
            <a:off x="6176880" y="3735360"/>
            <a:ext cx="2325600" cy="296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shinyinterior.com/modern/wp-content/uploads/2012/04/lrg-1-Wpool.jpg"/>
          <p:cNvPicPr/>
          <p:nvPr/>
        </p:nvPicPr>
        <p:blipFill>
          <a:blip r:embed="rId2"/>
          <a:stretch/>
        </p:blipFill>
        <p:spPr>
          <a:xfrm>
            <a:off x="554040" y="3581280"/>
            <a:ext cx="492768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http://jja-usa.com/wp-content/photo/2010/11/tropical-garden-design-4.jpg"/>
          <p:cNvPicPr/>
          <p:nvPr/>
        </p:nvPicPr>
        <p:blipFill>
          <a:blip r:embed="rId3"/>
          <a:stretch/>
        </p:blipFill>
        <p:spPr>
          <a:xfrm>
            <a:off x="507960" y="685800"/>
            <a:ext cx="419112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533520" y="2878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La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Pis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035760" y="3262320"/>
            <a:ext cx="247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uarto De 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3"/>
          <p:cNvSpPr/>
          <p:nvPr/>
        </p:nvSpPr>
        <p:spPr>
          <a:xfrm flipH="1">
            <a:off x="563400" y="7632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l Jard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029200" y="3380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La Yar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256360" y="1046160"/>
            <a:ext cx="343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a yarda de mi casa es muy bonita. Tiene la piscina nueva, el jardín grande, y un cuarto de sol impresion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576000"/>
            <a:ext cx="4572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Garaj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8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l garaje de mi casa es moderno  y lujos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MVC-072S"/>
          <p:cNvPicPr/>
          <p:nvPr/>
        </p:nvPicPr>
        <p:blipFill>
          <a:blip r:embed="rId1"/>
          <a:stretch/>
        </p:blipFill>
        <p:spPr>
          <a:xfrm>
            <a:off x="4305240" y="16286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63360" y="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9" descr="Awesome+Garage"/>
          <p:cNvPicPr/>
          <p:nvPr/>
        </p:nvPicPr>
        <p:blipFill>
          <a:blip r:embed="rId2"/>
          <a:stretch/>
        </p:blipFill>
        <p:spPr>
          <a:xfrm>
            <a:off x="914400" y="1639800"/>
            <a:ext cx="40766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8:05Z</dcterms:created>
  <dc:creator>keavenycai</dc:creator>
  <dc:description/>
  <dc:language>en-US</dc:language>
  <cp:lastModifiedBy>Caitlin Keaveny</cp:lastModifiedBy>
  <dcterms:modified xsi:type="dcterms:W3CDTF">2012-05-25T02:41:39Z</dcterms:modified>
  <cp:revision>36</cp:revision>
  <dc:subject/>
  <dc:title>Slide 1</dc:title>
</cp:coreProperties>
</file>